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2320-59C1-4677-A902-658E5863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CC7B-526D-439B-9ACD-C4FDD12C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FEA-F4B8-439F-8025-9204E36E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AEB-47F1-4469-A491-228ED54F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59D3-60F7-4860-8DAC-02782822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3069-CE06-4553-8AD8-41FB0EC0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7B84-E2FF-4493-ABB3-3F2992A4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3E14-E822-48E8-8B52-FFED5AD6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951C-1898-4430-A378-ED39D5A5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BDB9-5B1E-49DE-812E-D953BCFC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281-2604-4B24-8846-9B3B8D04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54CB-A208-4A7B-92A8-1577378B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9421-332B-4E7F-8199-A48393BEB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nglicansonline.org/basics/thirty-nine_articles.html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50 to early 160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dience and Religiosity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to Secular Authority Questi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ther- Diet of Aug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vin-Reluctantly Justified Political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x - “Blast the Trumpe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zabeth takes the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antism L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Stuart- Queen of Sc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Arm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y (Blood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t Cal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es Catholic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es Philip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es 1000s Prote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ing “Book of Common Prayer” Cran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les became Radicalized (including John Kno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stant Qu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s Protestan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 Articles of Religion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nglicansonline.org/basics/thirty-nine_articles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ly based Thomas Cranmer’s Book of Pr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ds of Dis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itans demand more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ain of Sabbath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al Bull Excommunicates Elizab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ism 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lic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lic Organ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egationalists demand Presby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s Torch Protestan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Dutch in revo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ier Disassociated w/Sea Beg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 II also supporting Catholics France and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stant William of Orange Assass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ry Navarre converts back to Cathol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s cousin, Mary Queen of Sc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smoke clears- Church of England or dead/exiled (Conventicle Act 159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Armada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d blew and they were scat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 England v. Catholic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gin Queen v. Unrequited? Marriage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 Beggars in Netherlands, Piracy at Sea (Drake) + Support of Netherlands-&gt;Arm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da-&gt;30,000 to 50,000 m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 communications, weak leadership and a poor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ier Drake delayed onset-&gt;attacked Cad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y Stu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VII Granddau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Mary of Guise (French fami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5 sent to France (Devote Cathol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arried to Henry II of France’s Son (Francis II), Mary becomes Queen of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her dies-&gt;Queen of Scotland,Husband dies-&gt; returns to Scotland 1561-&gt;remarries-&gt;has a son-&gt;Palace intrigue-Mary abdicates- one year old son-&gt;James VI-&gt;Mary escapes to 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tland-&gt;Protestant-&gt;John Kn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VI Prote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pi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 and Spain secretly conspire w/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ed to hand over crown to Philip II (Babington Pl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erine de Medici marries Henry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Huguenot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Kings- Intrigue and plo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rbons and G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us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of Nava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II (Valois) 1547-15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is I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es Catherine de Med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known for poi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Charles (became Charles IX, Catherine was Regent- 8 of 14 years of reign), incompe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Henry (became Henry III- note was also King of Poland-) 1589 stabbed to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Margueritte (married Henry of Navarre (Henry IV) St. Bartholomews Massacre!-&gt;later divorced hi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zabeth who married Philip II of Spain (at her wedding, Henry II jousted got hurt and died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is (became Francis II but died at just 16) married Mary, Queen of Sco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geun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Calvin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Tolerance gave way to intolerance (Edict of Fountainebleau 1540), smattering of tolerance (1562- January Edi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of Population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3rd of No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Noblewoman! Charlotte de Bourbon marries William of 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rbon family conversions-&gt;Other noble con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62 Fighting begins- Massacre at Vassy. Guise attack on Huguenots. Protestant Churches burned, congregants 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k K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etence led to Intri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is II dies yo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 IX killed by his m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III, alienates Catholics, bungles an assassination and is himself murd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erine- Expert at Poi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ing Guise and Bourb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 Degrees of Philip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rbons and Gu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me clear the House of Valois wouldn’t gain throne-&gt;next in Line-&gt;Bourbon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rbon family conversions to Protestan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II’s death-&gt;power vac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72- Catherine conspires w/Guise family against Bourbons- St. Bartholomew’s Massac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88-&gt;Guise family plots w/Philip’s Spain against Henry III- Henry assassinates Duke of G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hilip II married into Valois family and his daughter was to marry Henry of Guise (aiming to be 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96 Henry IV (Bourbon) enters into treaty w/House of G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massacre"/>
          <p:cNvPicPr/>
          <p:nvPr/>
        </p:nvPicPr>
        <p:blipFill>
          <a:blip r:embed="rId1"/>
          <a:stretch/>
        </p:blipFill>
        <p:spPr>
          <a:xfrm>
            <a:off x="0" y="442800"/>
            <a:ext cx="9144000" cy="6415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St. Bartholomew’s Day Massacr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ugust 15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In One Week-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100,000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French Calvinists (Huguenots) Slaugh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 your friends close but your enemies clos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lic tensions rise, belief Henry III not vigilant-&gt;Catholic League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ates Catholics, amends Peace of Bealieu- provided some rights to Huguen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Navarre leads Prote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lic League (Guise) supported by Spa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Henry kills Guise l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liation pushes Henry III to ally w/Henry Nava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-&gt;Henry stabbed by fervent mo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ildren-&gt;Bourbon family tak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of Navarre (Henry IV)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ris is worth a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Religions Several Times (at least 3 times was R.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EDICT OF 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598-RELIGIOUS TOLERATION- PROTESTANTS ARE ALLOWED TO LIVE IN FRANCE, no services in P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aking throne converted Cathol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96 Treaty w/Guis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assinated 1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 to describe moderate Catholics in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s ahead of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gmatists as opposed to ide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 takes Th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ere Cathol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anos (ex-Jews), Moriscos (ex-Musli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dinand (Uncle) has 1/2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Austrian/Spanish Habsbu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stant Reformation will unde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and- Mary has died, Elizabeth Qu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herlands- Calvi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lip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10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eauc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d Government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ly raised taxes (10% sales)-&gt;alien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id Cathol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scorial 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droom next to the Alt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lomacy through 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ing the Iberian Penins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ried the Princess of Portug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y Tudor (Maria Princess of Portugal had di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suing Elizabeth (Mary Tudor had di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ed incite French Cathol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ried Elizabeth of Valois (Catherine de’ Medici’s and Henry II daughter)- died—Philip totaled 4 wives in the e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cting the Flanks and the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uccess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71 Battle of Lepanto (note: Cervantes who wrote Don Quixote injured in batt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tomans defeated -Spain-&gt;control W. 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ed Moriscos ex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less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Provinces (Netherlands) Calvinists rise up and become Independ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es Iberia (158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I inherited, I bought, I conque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dies w/out an 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 (Uncle) claims th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ation W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th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e influx Silver (New World) -&gt; massive inflation-&gt;Grain prices up 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declares Bankruptcy several occa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rosperous area, Netherlands, gains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fied Jews and Muslims leav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perous area-  Substantial Textil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vinist and Roman Catholic provi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rdinal Granvelle-&gt;Catholicize Country- centralize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nt Margaret imposes Council of T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rom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ed oppose Catholic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566 Calvinists vandalize Catholic Chu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Philip retaliates-&gt;Duke of Alba Governor General-Council of Troubles=Council of Blood-&gt;1000s leave, many executed-&gt; William of Orange rises (assassinated 15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 beggars (includes Engli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ip retaliates,”Spanish Fury”@ Antwerp, 7000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ed Provinces-&gt;Republic (Union of Brusse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 and Protestant Provinces 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evicted (Perpetual Edi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 Brussels- div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lic Union of Arras (eventually 1820s becomes Belgium…note what’s happening there today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stant Union of Ut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ce decl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of Orange assass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zabeth Supports Dutch-&gt;troops and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do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7:35:48Z</dcterms:created>
  <dc:creator>Steve Balazs</dc:creator>
  <dc:description/>
  <dc:language>en-US</dc:language>
  <cp:lastModifiedBy>Local User</cp:lastModifiedBy>
  <dcterms:modified xsi:type="dcterms:W3CDTF">2011-10-03T11:41:44Z</dcterms:modified>
  <cp:revision>33</cp:revision>
  <dc:subject/>
  <dc:title>Six Degrees of Philip II</dc:title>
</cp:coreProperties>
</file>